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583-77FC-431E-8424-1AE939BB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76A-0855-4A1F-A9AD-C549FD01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411-AE92-4C2A-818D-5D09F8DB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503-4D4C-4345-82B9-89B9C0A2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538-8701-40FA-8406-1EC278FB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468-7543-4270-9E12-5EE99CD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982-A393-498D-A189-40C00F10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01A-F4B6-4EDE-AB96-0602BB7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E3E-CDEB-4BF6-9EEF-7F74C39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DD2-A28B-461C-AEB5-A866940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DC0-99BA-4F4D-B5AE-6A23F6E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EA6-00A1-419A-8745-159C3715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808E-0985-40D7-8BE0-0B09F3FFF83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2:27:08Z</dcterms:created>
  <dc:creator>Grupo Editorial</dc:creator>
  <dc:description/>
  <dc:language>en-US</dc:language>
  <cp:lastModifiedBy>TORRES</cp:lastModifiedBy>
  <dcterms:modified xsi:type="dcterms:W3CDTF">2010-12-18T22:01:26Z</dcterms:modified>
  <cp:revision>1</cp:revision>
  <dc:subject/>
  <dc:title>Sin título de diapositiva</dc:title>
</cp:coreProperties>
</file>